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BFD-460E-4586-A41D-9D7F92C3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51A-B634-4764-8ACF-7AC742E8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E3D-44BE-478C-AE3C-EE9E0198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DAE-87BB-4577-98E9-AB69831D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F2C-9843-4CD3-8613-B0C48982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618-5288-4B28-9525-EFB7B4AF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F7C-615B-4B00-A2AF-37AA265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41B-AD63-48CB-9896-4EC95BAC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1C3-5101-42D0-AD26-A5D6D52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FAB-4CC9-4557-8BAD-7DD01F6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8E8-7539-4043-82B5-5D94C49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DA8-1E90-4F30-BAC3-B8B9CF4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33C2-C2D6-40D7-AD4F-8254B2A3F6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divoky@kr-s.cz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fryc@kr-s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fryc@kr-s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ozis@kr-s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ivoky@kr-s.cz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ní konference k Individuálnímu projektu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procesů v S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8.11.2013 Pr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436640"/>
            <a:ext cx="669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é aktivity – Odbor sociálních vě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gr. Vladislav Fry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5) Vzdělávání pro sociální pracov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vzdělávání pro soc. prac. obcí v jednodenních akreditovaných  kurzech týkajících se soc.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yní VZ na dodavatele – zahájení realizace cca od 1.1.2014 – do 31.3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zd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ělo by být podpořeno cca 150 účastníků (min. 70 osob) při 15 jednodenních kurzech (minimálně 5 různých) -  /jednodenní kurzy - 15x kurz po 10ti účastnícíc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budou akreditovány u MPSV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ů se budou účastnit jak sociální pracovníci kraje, tak obcí s rozšířenou působností (ORP), tak pověřených obecních úřadů PO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émata dle zaměření sociální práce na ob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EZ VÁS TO NEPŮJ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6) Krizová intervence – výcvik v krizové intervenci – akreditovaný ku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sociální pracovníky zařazené do obecních úřadů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ORP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kraji a úředníky kraje, přednostně vykonávající soc. práci s rodinou nebo osobami, jejichž způsob života může vést ke konfliktu se spole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yní V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a dodavatele – zahájení realizace cca od 1.1.2014 – do září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ar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cena kurzu na volném trhu cca 30 tis / účastník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vý rozsah kurzu je stanoven n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50 hod. – 158 hod. na jedno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ůjde o telefonickou krizovou interven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výběr je stanoven poče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5-17 osob z Obcí s rozšířenou působností (ORP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elkem 20 osob (3 – 5 kra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e – aktivně působící zaměstnanec v rámci „páteřní sítě“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ikoliv vzdělání pro vzděl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i výběru bude dáván důraz n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kušenosti zaměstnance,  vzdělání zaměstnance,  vazba na vykonávanou agendu,  předpoklad využití krizové intervence pro další práci v rámci sociální práce pro konkrétní ORP!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namné pro výběr bude i zhodnocení motivace konkrétní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omezený počet míst….. zodpovědnost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7) Mediace – výcvik v mediaci – akreditovaný ku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sociální pracovníky zařazené do obecních úřadů (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v kraji a úředníky kraje, přednostně vykonávající soc. práci s rodinou nebo osobami, jejichž způsob života může vést ke konfliktu se spole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yní V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a dodavatele – zahájení realizace cca od 1.1.2014 – do září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ar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cena kurzu na volném trhu cca 30-35 tis / účastník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vý rozsah kurzu je stanoven na 100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d. na jedno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výběr je stanoven poče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 osob z Obcí s rozšířenou působností (ORP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elkem 15 osob (3 kra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e – aktivně působící zaměstnanec v rámci „páteřní sítě“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ikoliv vzdělání pro vzděl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i výběru bude dáván důraz n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kušenosti zaměstnance,  vzdělání zaměstnance,  vazba na vykonávanou agendu,  předpoklad využití krizové intervence pro další práci v rámci sociální práce pro konkrétní ORP!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namné pro výběr bude i zhodnocení motivace konkrétní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omezený počet míst….. zodpovědnost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VĚ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 aktivitách zde představených budete průběžně informová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-mai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rze pracovní skupiny (koordinátoři plán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ovými stránk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efonic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a samozřejmě při osobních setkán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třeb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ivní kontakt (na koho se obrac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tner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o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ivi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dpověd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 případě potřeby více informací apod. se obracejte n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an Divoký, projektový a finanční manažer projektu, tel.: 257 280 210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voky@kr-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ný přesah – zaměstnanci oddělení sociálních služeb a humanitárních činn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a pěkný den</a:t>
            </a:r>
            <a:r>
              <a:rPr b="0" lang="cs-CZ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Vladislav Fry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ddělení sociálních služeb a humanitárních činnos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yc@kr-s.c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tel.: 257 280 5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854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8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Základní síť sociálních služeb ve Středočeském kraji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: Individuální projekt realizovaný z výzvy 05 OP LZZ,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jekt vytvořen oddělením individuálního projektu ve spolupráci s oddělením sociálních služeb a humanitárních činností – projekt na podporu financování sociálních služ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tředočeský kraj (pod Odborem sociálních věcí – oddělení individuálního projekt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Z.1.04/3.1.00/05.000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97 822 522,00- Kč (přímo do služeb až 94 350 000,00 Kč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.9.2013 až 31.3.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Stručný popis projektu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dpora vybraných druhů sociálních služeb v roce 2014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avazuje na aktivity předchozího projektu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astaveno v souladu s podmínkami výzvy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yní v řešení veřejné zakázky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ptimální začátek části v lednu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gr. Ondřej Nauš, tel.: 257 280 939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e-mail.: naus@kr-s.c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8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valita sítě pobytových služeb pro seniory a osoby se zdravotním postižením ve Středočeském kra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Individuální projekt realizovaný z výzvy A9 OP LZZ 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jekt vytvořen oddělením soc. služeb a humanitárních činností – na základě identifikovaných potř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tředočeský kraj (pod Odborem sociálních věc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oddělení individuálního projektu – odborná garance oddělení soc. služeb a hum. činnost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Z.1.04/3.1.00/A9.00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6 028 352,00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11.2013 až 30.6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ý popis projek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výšení kvality pobytových sociálních služeb poskytovaných příspěvkovými organizacemi kraje, jejich větší zapojení do tvorby sítě služeb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mapování sociálních služeb, které zřizuje kraj primárně jako služby pobytové, na ně navážou audity kvality ve vybraných službách, konzultace zaměřené na revizi vnitřní dokumentace, postupů a supervize, přenos dobré praxe, kulaté stoly a další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tvoření strategie ohledně efektivního a udržitelného zajištění služeb zřizovaných krajem ve skutečné vazbě na potřebnost v dané lokalitě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odpora sociální ekonomiky a sociálního podnikání jakožto přenositelné pra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Vladislav Fryč, 257 280 545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yc@kr-s.c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87000"/>
          </a:bodyPr>
          <a:p>
            <a:pPr indent="0" algn="ctr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dpora standardizace výkonu sociálně právní ochrany na území Středočeského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grantový projekt připravený do výzvy C2 OP LZZ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jekt vytvořen oddělením S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 SCHVALOVACÍM PROCESU (prošel hodnocením) - následující info pouze předpokl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čet projektu (předpoklad)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cca 4 mil.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ba realizace projektu (předpoklad)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.2014 – 30.6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ý popis projektu (předpoklad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odpora standardizace výkonu SPO na území kraje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naplnění standardů kvality soc.-pr. ochran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řijetí nových sociálních pracovníků, profesní rozvoj pracovníků OS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orkshopy, metodická setkávání a kulaté sto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Další informace po 12.12.201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doucí oddělení SPOD Libor Možíš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zis@kr-s.c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: Individuální projekt realizovaný z výzvy A9 OP LZZ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jekt (provázán a stmelen s ostatními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projekty - systém)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ytvořen oddělením soc. služeb a humanitárních činností (projek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tředočeský kraj (pod Odborem sociálních věc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oddělení individuálního projektu – odborná garance oddělení soc. služeb a hum. činnost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Z.1.04/3.1.00/A9.00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0 339 820,00- K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.9.2013 až 30.6.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Stručný popis projektu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zpracovaní analýzy včetně kvalitativního šetření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dpora pracovních skupin, konferencí, odborných seminářů, workshop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koordinace plánování s ohledem jednotný systém a rozvoj sociální práce a soc. služe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dpora vzdělávání zaměstnanců zadavatel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jektový a finanční manažer: Mgr. Jan Divoký, tel.: 257 280 210, e-mail.: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voky@kr-s.c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Odborná garance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oddělení soc.sl. a hum. činnost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4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1) zpracovaní analýzy včetně še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yní v procesu veřejná zakázka  - zahájení od cca 1.1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běr dat nejpozději do poloviny roku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kázka za více než 3 mil.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klad pro stanovení sítě a dostupnosti služeb a od roku 2015 i pro financování sociálních služ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běr dat a jejich zpracování i ve vazbě na finanční mod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LA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eloplošný přís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vázanost s dalšími službami a potřebami (např. vyrovnávání příležitost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ÁPO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pretace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měny legislati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dostupnost, popř. překrývající 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ZVA“ PRO OB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moc při sběru dat a jejich interpetaci – např. skrze skupinu koordinátorů plán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řístup ke svému území a jeho potřebá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odklady pro jednání s ved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2) podpora pracovních skupin, konferencí, odborných seminářů, worksho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vodní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alizace a setkání Krajské koordinační kom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váleno, že pracovní skupiny pod Odborem sociálních věcí – nástroj k výsledné strateg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skupiny – zahájení cca od 2014 – podpora skrze facilitaci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enové skupin vybráni dle průřezu služeb a dle potřeb – cca 15 členů / skupina (mimo koord.p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snou pracovní skupinou koordinátoři plánování (SK i zástupce Hl.m. Praha) – základ sí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skupiny cíleny dle cíl.skupin, popř. skupina financování. Cílové skupiny ….diskuse členění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běhnou 4 odborné semináře dle výstupů – témata k podpoře 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TIVNÍ ÚČAST OBCÍ – KOORDINANČÍ SKUPINA PLÁNOVÁNÍ A DALŠ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3) </a:t>
            </a: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Regionální konzultační centrum (RKC) -stručná charakter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yní VZ na dodavatele – zahájení cca od 1.1.2014  - do poloviny roku 2015 – 1400 konzultačních hodi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akázka do 1 mi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ílem bude podpora procesů poskytování soc. služeb a soc. práce ve formě konzultací - prostřednictvím seznamu odborníků na témata vztahující se k této oblasti - bude tvořit živý sezn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ce a kraj budou moci využívat tuto vytvořenou síť jako podporu. O konzultaci budou žádat vždy obce a kraj (zaměstnanci vykonávající agendu soc.služeb a soc. práce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 konzultaci s organizačním pracovníkem centra bude vybrán vhodný konzultant, jehož proplatí dodavatel RK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LAD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eloplošná podpora; Podpora soc. práce ;  Jednotný postup;  Ušetření finančních prostředků; Přenos opakujících se témat;  Ověření fungovaní; tohoto modelu;  Síť odborníků – udržitelná a financovaná i dál;  Podpora smyslu sociální prá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IZIK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ezájem strany OPR a POU;  Změny legislativy; Špatná realiz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ÝZVA PRO OBCE: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yužít nabídky a reagovat na potřeby    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BEZ VÁS TO NEPŮJ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4) Vzdělávání koordinátorů plánování rozvoje soc.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vzdělávání koordinátorů z obcí v kurzu /resp. kurzech/ směřujícím k zajištění procesu plánování na úrovni potřeb, indikátorů, nastavení procesů, facilitace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yní VZ na dodavatele – zahájení realizace cca od 1.1.2014 – do 31.3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zd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sah vzdělávání je min. 40 hod a max. 56 hod. v kurzu /resp. kurzech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budou akreditovány u MPSV ČR s tím, že půjde o 2 paralelní skupiny po 15 osob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ad je 25-27 osob, kteří jsou zaměstnanci obecních úřadů obcí s rozšířenou působností (ORP) popř. v případě potřeby a zájmu i zaměstnanci pověřených úřadů (PO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ři výběru bude dáván důraz n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ušenosti zaměstnance, vzdělání zaměstnance, vazbu na vykonávanou agendu, předpoklad využití pro další práci v rámci procesu plánování pro konkrétní ORP, popř. POÚ! zhodnocení motivace konkrétního účastní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EZ VÁS TO NEPŮJ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Fryč Vladislav</cp:lastModifiedBy>
  <dcterms:modified xsi:type="dcterms:W3CDTF">2013-11-22T19:30:42Z</dcterms:modified>
  <cp:revision>36</cp:revision>
  <dc:subject/>
  <dc:title>Snímek 1</dc:title>
</cp:coreProperties>
</file>